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5AA-D7BB-4C64-A2AE-5AB46641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890-2434-48F9-B752-447614FD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B35-5A86-4FE1-8150-2FF17D9F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6AA-3E7C-4808-A4A3-ECC662FF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BBC-1C6A-44B6-AFB3-5656A68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05C-AC2D-49D8-9257-7942E64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9A1-3BC6-47A1-A441-E3166A5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895-5939-4B61-8FD6-F65BD9A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3A7-ECFB-4617-ACC6-9EC8E9A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CB1-BEB5-4662-B035-8256784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1AD-7830-4A27-ADCF-CD881D3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479-1FB8-4538-87C3-89538483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CC8-AC5D-4B35-B3CB-8745799B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6 Zas vôkol radosť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as vôkol radosť vládne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je všade spev a jas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a kraje nedohľadné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sú plné sviežich krá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aždá kvapka ro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ako krištáľ sk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včielka nektár nos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pieseň vtáčat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kvitnúce sú sa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odník do p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reťaz vrchov hľad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ichých údo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n obilia sa vl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tok žblnko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motýľ na výsl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Bohu chválu ch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nespočetné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z lásky Stvor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bá o všetky tvo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život má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ní svit, pokoj noc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milosti nám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y jeho m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 vďačným srdcom chváľ!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zivatel</cp:lastModifiedBy>
  <dcterms:modified xsi:type="dcterms:W3CDTF">2010-07-24T11:46:32Z</dcterms:modified>
  <cp:revision>91</cp:revision>
  <dc:subject/>
  <dc:title>Je veľký náš Pán, on slávy je Kráľ Nech do všetkých strán  spev vrúcnych znie chvál.</dc:title>
</cp:coreProperties>
</file>